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32C-03F3-4884-887A-6F3B7195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B08-297F-4DA0-8533-D5F6F5C3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183-F3A1-4F63-A52D-6C230012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3FB-6587-40F4-B70B-04728490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727B-8B27-46B8-A009-C4C5FF6B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839-75DE-4FA6-970D-9A5265EC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A2FB-1CD0-4773-AC1E-AF03F285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14DA-CB51-4C35-9FDE-906EE47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A47A-81E9-4CBA-A58A-B35BA6A5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75F9-95CE-44EB-95AF-2BBC8A97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56A6-8DAF-4FEF-B73F-10E2E679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878-2056-45FF-BF5F-F576894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1E51-B87E-482F-B80D-5C9F835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B282-1046-4728-8E54-66E2E7A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7233-D2A0-4659-9EAA-9DB93E13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5E4B-B61D-4615-8699-3895DE73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92E-2FF7-4D45-BD6A-851A227C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1ED-C72B-4B65-83DE-0F62D9E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E13-41EF-455F-913B-D96BD7CE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B64-E7AD-48D4-A599-E9ACEA51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CD7-3985-47CB-B4F1-99AD8C32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2A8-4CFF-44A8-BB59-4433A20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A16-C17B-4F09-A945-788B02F0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CF0-1049-4A2E-A44F-6CF2063B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384720" y="5410080"/>
            <a:ext cx="575928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148B-594A-4170-AFA2-229196C0AAE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64278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590920"/>
            <a:ext cx="8229600" cy="1981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8C94-1D8D-4F59-8B5B-E9F3630DB10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00b5b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00b5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00b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00b5b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22Z</dcterms:modified>
  <cp:revision>40</cp:revision>
  <dc:subject/>
  <dc:title>幻灯片 1</dc:title>
</cp:coreProperties>
</file>